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551-4330-42D5-B42E-A4C7B37E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ADB-1079-4B50-9E03-1C9886B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565-6891-4547-A476-C324A395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7BC-AA72-4314-9F4E-61500C2B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83C-B9D4-4AC9-95EA-FF0576B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DBC-0783-49A8-854B-E7C2A061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E18-A7A2-441A-BD2F-0D7E0A5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9F0-84B3-43D4-A49A-1BC7001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642-2EA0-4796-8988-FFC3C165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F58-1577-4CA1-A02B-9123914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4E3-4523-4275-A379-F7BE6D8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BF4-4EFD-415C-85E7-73261A8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53D-C74B-4F4B-9522-ADA8EF2B9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7400" y="54864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lissa Tam and Bridget Dur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ussian rivers run from south to north making their use difficult during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rts are covered in snow and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ers must transport their goods another 200 miles to reach the nearest part of inland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two important ports called Kaliningrad and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iningrad is located on a small island in the Baltic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he only port that stays ice-free the whol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ummer they have the choice of keeping their goods on the ships to travel 500 miles to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vel is the main transportation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5 Russia had 154,000km of railroads but 26% of them were elect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ffic dropped since the beginning of the Russian economic reform, making the economy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 </cp:lastModifiedBy>
  <dcterms:modified xsi:type="dcterms:W3CDTF">2010-12-17T18:31:43Z</dcterms:modified>
  <cp:revision>4</cp:revision>
  <dc:subject/>
  <dc:title>Movement</dc:title>
</cp:coreProperties>
</file>